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A89-6CB0-4126-8374-4B1562A5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713-4B3E-4A98-962E-39D3FF7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D73-288C-4285-9A47-F3E9097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B2D-8E52-4070-A840-9F30B468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FFF-4A80-4F01-A5F0-6CE987F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4C6-6E6A-4FF9-B1E1-FE7829DC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7D0-B45D-44D3-9C3F-9CEBAA6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2A6-6D2B-4D2D-B161-897CBCD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836-9A5E-41C2-9F57-A3A2500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308-39A7-4113-AFD1-CEDC0C6E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AEF-2630-4122-B517-F23C4E3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83B-5703-4433-9679-EA13C8B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793-1D37-401C-A13A-7AB47924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gabo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72428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4-27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609480"/>
            <a:ext cx="7543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dfc04">
                    <a:alpha val="65000"/>
                  </a:srgbClr>
                </a:solidFill>
                <a:latin typeface="Impact"/>
              </a:rPr>
              <a:t>Hologram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dfc04">
                  <a:alpha val="65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868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105520"/>
            <a:ext cx="525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music,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Impact"/>
              </a:rPr>
              <a:t>Bad Road,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Impact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rcRect l="58835" t="3813" r="0" b="0"/>
          <a:stretch/>
        </p:blipFill>
        <p:spPr>
          <a:xfrm>
            <a:off x="3962520" y="304920"/>
            <a:ext cx="4876560" cy="351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6019920"/>
            <a:ext cx="44956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Impact"/>
              </a:rPr>
              <a:t> Hologram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, 5 -10-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Impact"/>
                <a:hlinkClick r:id="rId2"/>
              </a:rPr>
              <a:t>http://web.mit.edu/invent/iow/gab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2670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e hologram is an amazing technological adv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vention: Hol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hologram is formed when the interference of two waves of light are recorded on a piece of fi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Holography had been experimented on since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t wasn’t until   when Dennis Gabor came around with a developed laser it worked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o day it has many uses such as measuring in particle physics and as bar code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ventor: Dennis Ga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was born in Budapest, Hung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Was born on June 5, 19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went to Berlin, Germany to get his doctoral and bachelor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left Germany in 1933 when Hitler was coming to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also tried to develop things such as a holographic microscope, a thermionic converter, an electron-velocity spectroscope, and finally a flat color televisi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e received a Nobel Peace Award fo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ennis Gabor died in London in 19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0:28Z</dcterms:created>
  <dc:creator>install</dc:creator>
  <dc:description/>
  <dc:language>en-US</dc:language>
  <cp:lastModifiedBy>install</cp:lastModifiedBy>
  <dcterms:modified xsi:type="dcterms:W3CDTF">2010-05-12T17:38:55Z</dcterms:modified>
  <cp:revision>10</cp:revision>
  <dc:subject/>
  <dc:title>Slide 1</dc:title>
</cp:coreProperties>
</file>